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media/image9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5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C926C-FE71-46B2-805E-4A0CE107F0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8F03F-1A0F-41DB-8FCF-6FC201EF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B0F11-58FC-432D-AAF0-A952BC9F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8D4C1-1A51-4A7F-B755-6DEF21B5C7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F90EE-52C5-4DCD-9E7D-6198DCBA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424D4-6EA4-4DD0-A305-3B819232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13736-A8E2-4160-8F9B-11B78A3C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79570-FD3D-46D5-98C3-6EA7E0F5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D590C0-CB20-411F-8B45-CAEF9624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5F454-D47B-496B-98B2-7D174340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008F0-2727-4E13-A236-242EE770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F51FF-37BE-4B62-A321-C5B98CBA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012F5-95C4-42A5-8A30-A8C9FC50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30416-7A9C-4407-9347-250D3793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E4094-1011-4CCD-A264-060D48DA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70240-A232-4201-9979-C441F17B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769C7-C38A-4DD0-B43D-E6328C54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945B6-B6DF-4300-9599-0DBEFD4A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057E3-8FA7-4E1A-82EC-F9136631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5C78B-7C5E-4AC5-A872-12C2A6B9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5E65B-6870-4F5F-B02B-91F50E54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8A65B-1D95-47BE-B6B6-1288716E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12138-A90B-456C-8C5E-F142074D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6A609-997B-4FA7-9D63-01351D7C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601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-395280">
              <a:spcBef>
                <a:spcPts val="601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3" marL="1693800" indent="-387360">
              <a:spcBef>
                <a:spcPts val="601"/>
              </a:spcBef>
              <a:buClr>
                <a:srgbClr val="6699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4" marL="2093760" indent="-398160">
              <a:spcBef>
                <a:spcPts val="601"/>
              </a:spcBef>
              <a:buClr>
                <a:srgbClr val="bc8b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B56C-C1D8-4072-B6C9-F9B0DC946932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09480" y="1523880"/>
            <a:ext cx="7620120" cy="1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2480" y="990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7F59-4EBF-4AB0-B60D-49D9D6C52452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7620120" cy="14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2" marL="909720" algn="ctr">
              <a:spcBef>
                <a:spcPts val="451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3" marL="1306440" algn="ctr">
              <a:spcBef>
                <a:spcPts val="451"/>
              </a:spcBef>
              <a:buClr>
                <a:srgbClr val="6699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4" marL="1695600" algn="ctr">
              <a:spcBef>
                <a:spcPts val="561"/>
              </a:spcBef>
              <a:buClr>
                <a:srgbClr val="bc8b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5" marL="1695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6" marL="1695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he Tenet Architecture for Tiered Sensor Network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  <a:ea typeface="宋体"/>
              </a:rPr>
              <a:t>O. Gnawali, B. Greenstein, K-Y. Jang, A. Joki, J. Paek, M. Viera, D. Estrin, R. Govindan, E. Kohler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eneva"/>
                <a:ea typeface="宋体"/>
              </a:rPr>
              <a:t>USC, UCL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eneva"/>
                <a:ea typeface="宋体"/>
              </a:rPr>
              <a:t>SenSys 2006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Three Task Operation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ceive a task with a new ID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odifica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ceive a task with an existing ID and a bod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ele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ceive a task with an existing ID and no bod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ll active containers associated with a task are destroyed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A6A04-4738-40D6-AB27-A19389D07A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Example Task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Blink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ntToLedsAndRf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ing and MeasureHeap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nseToRf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8381880" cy="268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23880" y="3048120"/>
            <a:ext cx="598176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80880" y="4114800"/>
            <a:ext cx="82584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33520" y="5257800"/>
            <a:ext cx="8029440" cy="314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533520" y="5562720"/>
            <a:ext cx="7419960" cy="57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6FC51-2FD7-47EA-9A7F-18C7742D6B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Data Fusion Exampl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ake 10 samples, timestamp i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lassify as interesting if 3 or more samples &gt; 45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alculates the deviation from the running mea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isplays the sample on the LED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nds the statistic, timestamp, and sample if interesting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4419720"/>
            <a:ext cx="6800760" cy="14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247D4-A11F-4C3D-8EF2-CF60EF7893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Network Subsystem Requiremen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ust support different applications on tiered network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outing must be robust and scalabl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aster-to-mot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te-to-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Small memory footprin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asks must be reliably disseminated from any master to all mot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esults must be delivered with end-to-end reliabil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27349-D2C5-4C69-BFD3-6ECCD8B9DE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Addressing and Routing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Every mote and master has a globally unique 16-bit addres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tes use TinyOS addres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sters use last 16-bits of IP addres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aster-to-master: IP routing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te-to-master: tiered routing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First route to nearest master, then to destination 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Use standard WSN tree-routing protocol like MintRout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F43AC-BF48-4F31-AF8D-A9FD3C9893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Tiered Task Dissemin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eliably floods tasks to all mot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Partial network re-tasking achieved using a </a:t>
            </a:r>
            <a:r>
              <a:rPr b="0" i="1" lang="en-US" sz="2000" spc="-1" strike="noStrike">
                <a:solidFill>
                  <a:srgbClr val="000000"/>
                </a:solidFill>
                <a:latin typeface="Geneva"/>
              </a:rPr>
              <a:t>predicate taskle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mplemented in a generic packet flooding protocol called TR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liably floods packets to all nodes (both motes and masters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ed on beaconing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05B43-828E-4DAB-887F-B1F1724632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Reliable Transport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ransmits responses from motes to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ree typ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liable transactiona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tream transport for high data rate application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ll use hop-by-hop retransmission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e reliable protocols use a simplified version of TCP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D29E8-DF40-4F60-BD54-B1796BD99B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Summary of Novel Networking Mech.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8663040" cy="401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07542-AE9E-4698-ADD0-E2D46BBCDB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Evalution: Concurrenc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How many tasks can a tmote support at once?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9480" y="5257800"/>
            <a:ext cx="7048800" cy="885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38080" y="3753000"/>
            <a:ext cx="6534360" cy="142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18960" y="2217600"/>
            <a:ext cx="874872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3FC47-DDC6-4238-9DC0-8F139C9758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43000" y="1752480"/>
            <a:ext cx="5734080" cy="10954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Execution Tim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4191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ost CPU-intensive tasklet, </a:t>
            </a:r>
            <a:r>
              <a:rPr b="0" i="1" lang="en-US" sz="2400" spc="-1" strike="noStrike">
                <a:solidFill>
                  <a:srgbClr val="000000"/>
                </a:solidFill>
                <a:latin typeface="Geneva"/>
              </a:rPr>
              <a:t>GatherStatistics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, can process 1200 samples in 14.8m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PU-bound max sampling rate is 81,000 samples per secon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286000" y="2819520"/>
            <a:ext cx="3543480" cy="14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085F8-59D2-4227-AAD3-C4289B6879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he Tenet Two-Tier Architectur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47239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otes and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ulti-node data fusion done on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asters program motes using </a:t>
            </a:r>
            <a:r>
              <a:rPr b="0" i="1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724280" cy="287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979A5-AF15-48E7-B57D-13E3A5930C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Application: PEG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EG = Pursuit-Evasion Gam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ne or more pursuers collaborate to corral one or more evader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Use WSN to help pursuers detect non-line-of-sight evad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ative implementation uses a leader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ultiple nodes sense the evader, leader fuses the data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tress tests Tenet (no mote-level fusion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implementation adjusts the detection threshol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A5628-4C43-4376-839A-6DBEDF6130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PEG Experimental Setup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3962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56 tmotes, 6 stargate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implification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宋体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vader detected using RSSI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宋体"/>
              </a:rPr>
              <a:t>Radio t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ransmit power limited to achieve multihop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-395280">
              <a:lnSpc>
                <a:spcPct val="90000"/>
              </a:lnSpc>
              <a:spcBef>
                <a:spcPts val="400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9-hop diameter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ne evader, one stationary pursuer on central 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743200" y="1752480"/>
            <a:ext cx="3429000" cy="21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B06AF-0D51-4A39-ACFA-0508433808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486400" y="4876920"/>
            <a:ext cx="3124080" cy="1224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PEG Evalu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4419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has higher accuracy but higher latenc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has lower message overhea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990720" y="1752480"/>
            <a:ext cx="3257280" cy="2482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724280" y="1828800"/>
            <a:ext cx="3124440" cy="234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13FFB-911C-47E8-9C02-146D0E8BB8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Vibration Monitoring Case Stud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used to implement Wisde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76520" y="2895480"/>
            <a:ext cx="3909960" cy="2990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371600" y="2286000"/>
            <a:ext cx="4419720" cy="485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867280" y="32004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ctOnSet reduces network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net simplifies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82CBB-B222-4622-A206-3B711CB69A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Manageabilit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e following task can be used to capture the routing trees: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is can be used to evaluate the task dissemination latency: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447920" y="2629080"/>
            <a:ext cx="6305400" cy="266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676520" y="3828960"/>
            <a:ext cx="536256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143000" y="4267080"/>
            <a:ext cx="682956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3DC32-B166-431E-8E61-0165B7B914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Robustnes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ailure of a master forces routing algorithm to adjus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5486400" cy="3343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447920" y="2209680"/>
            <a:ext cx="61243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1C59C-18F6-42B8-B533-5117B97581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Future Work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ear ter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ctuation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te-tier storag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unded-latency communication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Long ter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Impact of disconnection due to mobil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uthentic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Data Integr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ulti-user control and resource managemen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02075-1305-4795-A442-635A05E0C3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Conclus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simplifies programming while not significantly increasing overhea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502E1-7E01-470E-B99F-97B7697A458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Applic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Pursuit-Evas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Pursuer mobile robots chase after evader robots with the help of a sensor network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Traditional implementation employs mote-tier data aggregation to reduce redundant evader report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E7B17-0A83-4FC5-B503-C68FEF9321E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enet Componen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 librar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Composable tasklet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Reliable task dissemination protoco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Data transport mechanism (3)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Inter-tier routing subsyste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3AED5-7C4F-470B-9D50-0EC67BA13F3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Example Task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Notify application when temperature &gt; 50F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 task contains an arbitrary number of tasklets linked together.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824544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32263-458F-43E1-9D26-FE5B508F47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Motiv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ost sensor network architectures support multi-node in-network data fus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Increased complex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Reduced manageabil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4ADB3-C018-4324-8518-3AF9FFD3164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enet Desig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enet limits multi-node data fusion to the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Can perform more sophisticated fusion algorithm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Larger contex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 better decision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D07EA-EC08-4F62-97F4-24429AA74AA4}" type="slidenum">
              <a:t>31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Efficiency Cos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Opportunity cost of multi-mote data fus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otes can still fuse locally-generated data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-395280">
              <a:spcBef>
                <a:spcPts val="451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宋体"/>
              </a:rPr>
              <a:t>Sensor data have high temporal but low spatial redundancy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ore data routed to the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A well-designed WSN will have a small diame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Higher conges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Application parameters can be tuned, e.g., only high-confidence pursuers report to master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70781-8090-4FC1-B323-BF467D66F6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Five Design Principle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symmetric Task Communica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aster send mote tasks, mote send master reply, mote cannot initiate tasks (no inter-mote communication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ddressabil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asters can talk to each other, any master can talk to any mote, a mote can reply to its tasking 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 Librar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Each task is a subset of a mote’s generic functional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Resilience to extensive network failure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anageabil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Tools must offer useful insight into network failure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53F89-7C71-45B4-B50E-A5AB2032D9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enet Task and Task Librar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Focus on simplicity rather than expressivenes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 task is composed of tasklets, which are parameterized servic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Linear composi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lets maximize flexibility while remaining simpl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Each task has a unique ID, a list of tasklets, and their parame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 library composed at compile-time due to TinyO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3124080"/>
            <a:ext cx="7924680" cy="26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A4D39-C63B-454D-BA19-CDDFCF190E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Taskle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5105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an be composed into a wide range of task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362320" y="1752480"/>
            <a:ext cx="448632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AAC77-DB4A-4951-9EF0-FB934A6275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ask Data Structur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43434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s are dynamically allocate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ctive Containers hold task data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Cloned when a tasklet repeat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29000" cy="2654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43000" y="5562720"/>
            <a:ext cx="6878520" cy="563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143400" y="1828800"/>
            <a:ext cx="26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ttributes are 3-tu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tag, length, valu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006EB-142C-4462-8BFD-D1BE67244D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</a:t>
            </a: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he Mote Runtim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ask-aware queues used by services (e.g., wait)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scheduler operates at tasklet-level granular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llows multiple tasks to execute concurrentl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64D0A-E288-49AB-8159-39DA892BB6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6:50:13Z</dcterms:created>
  <dc:creator>julien</dc:creator>
  <dc:description/>
  <dc:language>en-US</dc:language>
  <cp:lastModifiedBy>Sun Fei</cp:lastModifiedBy>
  <dcterms:modified xsi:type="dcterms:W3CDTF">2006-09-22T18:36:16Z</dcterms:modified>
  <cp:revision>645</cp:revision>
  <dc:subject/>
  <dc:title>Slide 1</dc:title>
</cp:coreProperties>
</file>